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293C-E1D3-46AB-94B1-2C1555FD4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C495-A32E-4A69-B769-26759DD77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1FCA-2767-4762-9111-25C6CC58B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603D6-6008-4B2C-AB24-D2582F151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55266-3B87-426E-A1F9-6B0737482B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02A32-8DB7-4C84-90E5-D3D3A10FAD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CDF3C-37D1-444D-9DD6-8B70096570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3477F-AFF9-4590-9395-5906D72298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B94FB-8C92-4453-8170-24A094D058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83B5D-4EA6-453D-BE81-2CEF1CFB3C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05903-5059-4371-B2CD-2C7C25A8AE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05A1-E1A3-4A17-95B6-99E4B4AA5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BF121-1E78-4362-834E-408850EA36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EBB5D-B6A8-4BA7-AC35-68D765B43F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F89B5-F19A-406A-B60B-3B9D43E343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570B8-6DBF-4278-B89F-1E999AEDE5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AA61B-E849-40CE-93E5-C8DA2D3A2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420C-98F3-4D18-AE69-174BF6A80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75B6-AD2A-4BD6-BC10-68D979358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2880-A1FC-4525-B6BF-D4390A3F2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D6C1-851F-4CF2-92F3-5DC41FC49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60D9-6EC8-45C6-9116-F3C2E6734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7934-9AFD-45BF-A053-9CFEEEC1B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64033-38B7-4F06-A9DA-038622E72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8BF5CEE-399B-4CE5-B6E4-F65CFAD88ED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7CB318A-9E67-45BF-89E8-A81B9E7B550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FAE3ED2-E4B8-4475-AE2F-A9403317C9C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9A9BA1E-7F2D-420E-8F79-34CE60C7C8C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hyperlink" Target="http://www-class.unl.edu/psycrs/statpage/comp.html" TargetMode="External"/><Relationship Id="rId3" Type="http://schemas.openxmlformats.org/officeDocument/2006/relationships/hyperlink" Target="http://www-class.unl.edu/psycrs/statpage/comp.html" TargetMode="External"/><Relationship Id="rId4" Type="http://schemas.openxmlformats.org/officeDocument/2006/relationships/hyperlink" Target="http://www-class.unl.edu/psycrs/statpage/comp.html" TargetMode="External"/><Relationship Id="rId5" Type="http://schemas.openxmlformats.org/officeDocument/2006/relationships/hyperlink" Target="http://www-class.unl.edu/psycrs/statpage/comp.html" TargetMode="External"/><Relationship Id="rId6" Type="http://schemas.openxmlformats.org/officeDocument/2006/relationships/hyperlink" Target="http://www-class.unl.edu/psycrs/statpage/comp.html" TargetMode="External"/><Relationship Id="rId7" Type="http://schemas.openxmlformats.org/officeDocument/2006/relationships/hyperlink" Target="http://www-class.unl.edu/psycrs/statpage/comp.html" TargetMode="External"/><Relationship Id="rId8" Type="http://schemas.openxmlformats.org/officeDocument/2006/relationships/hyperlink" Target="http://www-class.unl.edu/psycrs/statpage/comp.html" TargetMode="External"/><Relationship Id="rId9" Type="http://schemas.openxmlformats.org/officeDocument/2006/relationships/hyperlink" Target="http://www-class.unl.edu/psycrs/statpage/comp.html" TargetMode="External"/><Relationship Id="rId10" Type="http://schemas.openxmlformats.org/officeDocument/2006/relationships/hyperlink" Target="http://www-class.unl.edu/psycrs/statpage/comp.html" TargetMode="External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hyperlink" Target="http://independent.academia.edu/JohnFHall/Talks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3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38080" y="160020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77724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600200"/>
          <a:ext cx="7925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925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160020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27240" y="160020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7240" y="160020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 flipV="1">
            <a:off x="2590920" y="159984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3886200"/>
            <a:ext cx="327672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as abov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class.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unl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4"/>
              </a:rPr>
              <a:t>.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5"/>
              </a:rPr>
              <a:t>edu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6"/>
              </a:rPr>
              <a:t>/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7"/>
              </a:rPr>
              <a:t>psycrs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8"/>
              </a:rPr>
              <a:t>/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9"/>
              </a:rPr>
              <a:t>statpage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0"/>
              </a:rPr>
              <a:t>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CR x age) given group, CR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 contro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-31212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-31212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20720" y="1600200"/>
          <a:ext cx="590256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600200"/>
                    <a:ext cx="5902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 flipV="1">
            <a:off x="1371600" y="18284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14400" y="297180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</a:t>
            </a: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Academia.edu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ff00ff"/>
                </a:solidFill>
                <a:uFillTx/>
                <a:latin typeface="Verdana"/>
                <a:hlinkClick r:id="rId3"/>
              </a:rPr>
              <a:t>http://independent.academia.edu/JohnFHall/Ta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 and complex designs including analysis of co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Administrator</cp:lastModifiedBy>
  <dcterms:modified xsi:type="dcterms:W3CDTF">2009-10-15T13:04:41Z</dcterms:modified>
  <cp:revision>280</cp:revision>
  <dc:subject/>
  <dc:title>REGRESSION ANALYSIS</dc:title>
</cp:coreProperties>
</file>